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E2E1-85C7-4E56-AFD3-3874E948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E90F-EF44-4954-A027-C51DAB0B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02A18-B20D-41D1-AACA-327E5EB3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BA600-B10F-4374-8A86-02206211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BF28A-0DEF-463C-9BF7-E4C06E08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FBF4A-3063-4631-A475-723F36ED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30677-9E51-445C-A453-6468BA9A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3CB8C-7FBE-4D54-86A0-1428D035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E7AB6-1E4A-4EC1-A14A-D61483B3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DBC3B-3AF5-4E34-8881-9E98C229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6A09A-BC52-4039-BCA4-7A970FB1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0D1EA-2445-4BF0-AAB2-510E27FE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DC62-12A1-408F-8702-981A06A4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FF75B-EFBE-45F0-8C8D-057B3F28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4AD52-EFE1-483D-9334-C94EE66B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AEEE8-82F2-4837-80CE-C8F3D653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CAF68-34E5-4490-8152-34F54B50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07CD6-612E-4980-BFEA-E79F3DDD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16F11-AD65-4A66-A933-1017E9BB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53785-EB84-424F-90EC-1743B3F3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B0C17-ADB9-4343-9F3A-8D9F6684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6901B-18ED-433D-84A5-EFCF34B0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8DFFB-BD7A-4481-9649-0E5897E2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D4C0-627E-4CE5-A7CF-895FAEC7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A97E7-AE54-4712-9B79-3D5B9AD7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F30B4-17AD-42E5-938B-4DFD4587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A745D-F9FA-48DC-A047-81635A8C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F459E-262E-48E4-8272-74CFF6AA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73919-F7D0-4202-BA85-8F27F28F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FA1A7-609A-4B4A-9626-086F3747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FC1F4-20B3-4C81-9311-B3510A78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75B00-12AB-4D12-9AC6-031E64E8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C987B-9B50-40E4-930E-8A8E84B5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9B4D7-F9B2-4168-A174-0CB04B94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E4E8D-3F15-4927-ABD5-7E630A53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32C86-5877-41B6-9E83-0658126B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E22FD-ECAB-4CEE-BDA0-2FCDBD9F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45CD7-8A38-4D59-ABCA-D13E6051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101514-B14C-474D-9207-F95E86E2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57ABD-AC0E-48A2-8E05-D8DF3FB9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A0830-EE6B-4095-9BDC-1E344F20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B1108-B1B5-4742-B784-0FE878E7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385E1-4D0C-425F-920F-EB3E25E3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D8670-2095-48CB-A054-3B7ABF2C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6618E-B2E1-48FC-A282-13BB935C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6D9D7-5315-49A9-B9D6-5B45DB5C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7A7AE-6DEC-4E32-B76E-045CAD8A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7964A-8E3B-46E9-9588-0FA0E250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71013-A6E4-4997-B0BA-A0011124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7FCA4-F885-4594-83BE-61193698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26A2C-430E-491B-A002-BEC60BC2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A5A99-CE69-44F7-AA27-326968F9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FA172-E4C4-43AB-B366-953416BD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E7170-18A8-4E22-81B7-9B72670B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CB43D-2346-4003-854C-75226CF6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0A243-B840-426C-9F52-0795CBEB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3EF4-E479-46B7-B7D9-2ACB986C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04054-E4D6-4895-BDA3-00A25AC7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2B94D-B8AB-4A00-8E57-6E666F8D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A45A5-DA95-4480-BBD5-A2E75C30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43242-2CAA-4FC6-A2FC-C07ED0F8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18705-03C3-4EE3-B06C-1E08D268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BC12D-AA80-48CD-A623-149036C4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D5BEE-9EF0-4E9C-80F6-18B0C9F7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6460F-4518-49B1-918D-AC6C27B7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4276B-EDE5-4852-AFC1-1CC6D23D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B5A63-E8AA-420B-8B8D-3ADC4E77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AD4A-1CE4-4AEF-AC87-385963DD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86D89-AB6C-4CEA-8331-BEE71970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B4341-1DAA-465A-B9D4-1710E2B6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D7C4E-1E9A-4D42-82D9-D87DDFFC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964AA-D60E-421B-942E-77DA121E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8F0BF-55AC-4D9E-8614-7A6D38BD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EBEC8-A4B6-421B-B95A-41112211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B0EEE-9E91-4D47-9DE1-38236809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C7962-E51B-45BB-A09F-07990892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F3399-22EF-40B0-959A-C2DDED2E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4CD9C-BE49-4BD3-9F78-A97AA062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F556-0DF8-4F1A-8BAC-B2D0E9B0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99EFF-6C91-411F-8590-C9A42F56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79586-C685-40FB-9716-3D868DCA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48DFC-8F14-49AC-AF6E-8A7AA5F2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B4DFE-7D75-4814-98A7-05D08CDE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251C3-F405-4CCA-9F11-FB39EA7B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1433A-74A3-474B-BC27-A725EE0E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49C73-51DB-414C-A8D9-585A3E04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24EDF-3931-4AC7-8670-4D7277ED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103C0-8FF9-4561-83D2-48522DCF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FE1FB-C6E6-4C0D-8CE7-8094939D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5C9F-06FE-4533-ACB5-26444E4A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02C0E-26DD-4A72-8090-330E91C6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91C24-0703-4A71-8F4A-6211A862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7247A-7C22-4904-807E-001AB120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A46F5-B798-4874-80A2-4B03B074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DA404-7F82-418E-9092-C6490853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A493F-BF0D-4F62-AB1C-24037162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7A6F0-8206-499B-BEF2-7F9A6872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17DCB-AEA1-4F19-BF40-ED328757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D9347-4674-48BA-B85A-583B6DBD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A7868-7362-4174-8AAC-0FAC6078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269D-76E2-4D84-B52E-96C4C576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9B6D7-8B62-4A25-B316-BDE1710E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71418-A774-4051-BFC4-32EDC561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A9545-2547-4AF8-8B3B-A1DABE1A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DC431-4117-498F-B123-678554B6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4B80F-3EF1-46DE-B845-0BFE0FAF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518D1-C377-40BA-8EC9-B80FBF1C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BFF05-34B3-4631-9F44-BF271CB3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ED339-0855-4B3E-B111-F8A2DF1B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0C4D1-CB79-4870-974F-BE959E30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F728C-2AA0-4D8F-91B0-5FC56039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2CCC-D3A9-48C5-9E02-B3C093FA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49D21-DFF7-44BA-931E-1EBE3CE1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81BEF-A41E-43AF-8E14-BC45D8E0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9A6D3-EA28-40B1-AD08-C306BE82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2D11C-9FE6-49BF-9EBB-186B3E54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C6793-1285-4C39-8DF4-80186728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E3CF1-94FE-4F94-85EB-8C6F0BF0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C574B-1761-4B67-AF1F-03EE3034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AA466-F488-4296-B8CD-BDC7F252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5D99B-42A8-45A0-AD8D-D46FDB44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01646-ACB9-4BA8-B39D-ADB19B35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F231-EBC1-4690-AAB4-FB838DBA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5E3C0-1990-4CB9-B237-8A23670C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1730B-DE0E-4E5F-887D-F1969875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F975B-4246-49F3-9B06-FEAAFA74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9E689-0300-414F-9CA5-DBFDCA63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8FB6D-B805-4B4D-9828-846D65F5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E5B96-BC57-4129-99BE-FB9F2F0F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99A55-75D6-49AF-9E41-401F6918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436EC-2A18-4044-8025-AE8DEF05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5A908-A7D5-4B98-B8E4-B19BFE0F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20CA6-751F-4F4B-B6FA-3453B821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F43F-3F26-43E2-979F-FAF8EAF7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46C68-39A1-4E90-A40C-07827C6A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9789E-D4EE-40DE-BD81-CCFBDB9B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4EFF2-6A53-4DF3-AD47-73E74A5F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9E4FC-10CB-452C-970F-1DBAF787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C45FF-5F7D-4B91-99BB-D6F80DE9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7A6A2-3793-4F69-90FF-3E67EC2A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D8631-A1FA-4A1E-B68B-390D7F9C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14E5B-5EBA-4AAC-9449-0489F27C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6116B-2D1A-4E65-AFC0-D9A8C89A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83808-AE3D-40C6-89A6-2F2F6A55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50000">
              <a:srgbClr val="ffffff"/>
            </a:gs>
            <a:gs pos="100000">
              <a:srgbClr val="00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C69A-11D5-437E-BF87-91C48BFE8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50000">
              <a:srgbClr val="ffffff"/>
            </a:gs>
            <a:gs pos="100000">
              <a:srgbClr val="00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3008-2F05-4748-B75C-B45315B8A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50000">
              <a:srgbClr val="ffffff"/>
            </a:gs>
            <a:gs pos="100000">
              <a:srgbClr val="00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3085-8900-4BFA-829A-1B35F8AEB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50000">
              <a:srgbClr val="ffffff"/>
            </a:gs>
            <a:gs pos="100000">
              <a:srgbClr val="00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70FB-14C3-40C1-ADB5-A1D60FAAD0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50000">
              <a:srgbClr val="ffffff"/>
            </a:gs>
            <a:gs pos="100000">
              <a:srgbClr val="00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247D-546D-4C3C-BC49-B2966852B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50000">
              <a:srgbClr val="ffffff"/>
            </a:gs>
            <a:gs pos="100000">
              <a:srgbClr val="00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4FFF-FBDD-4113-8718-46A20D793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50000">
              <a:srgbClr val="ffffff"/>
            </a:gs>
            <a:gs pos="100000">
              <a:srgbClr val="00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4865-5C72-46A4-895B-E6289E503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50000">
              <a:srgbClr val="ffffff"/>
            </a:gs>
            <a:gs pos="100000">
              <a:srgbClr val="00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E017-4E00-493D-8DAD-802B584CE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50000">
              <a:srgbClr val="ffffff"/>
            </a:gs>
            <a:gs pos="100000">
              <a:srgbClr val="00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42ED-3A9E-4932-AFCD-33A8F866A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50000">
              <a:srgbClr val="ffffff"/>
            </a:gs>
            <a:gs pos="100000">
              <a:srgbClr val="00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13F7-DD01-46D6-8331-FBFF0ECE5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50000">
              <a:srgbClr val="ffffff"/>
            </a:gs>
            <a:gs pos="100000">
              <a:srgbClr val="00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FD8C-87EA-45AF-8B7C-673056872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50000">
              <a:srgbClr val="ffffff"/>
            </a:gs>
            <a:gs pos="100000">
              <a:srgbClr val="00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7BC0-4D6E-4099-B68F-B49D798DC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10"/>
          <p:cNvSpPr/>
          <p:nvPr/>
        </p:nvSpPr>
        <p:spPr>
          <a:xfrm>
            <a:off x="611280" y="4221000"/>
            <a:ext cx="822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Tahoma"/>
                <a:ea typeface="黑体"/>
              </a:rPr>
              <a:t>연변대학경제관리학원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Tahoma"/>
                <a:ea typeface="黑体"/>
              </a:rPr>
              <a:t>서향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Text Box 10"/>
          <p:cNvSpPr/>
          <p:nvPr/>
        </p:nvSpPr>
        <p:spPr>
          <a:xfrm>
            <a:off x="0" y="1052640"/>
            <a:ext cx="896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Tahoma"/>
                <a:ea typeface="Gulim"/>
              </a:rPr>
              <a:t>           </a:t>
            </a:r>
            <a:r>
              <a:rPr b="1" lang="ko-KR" sz="4000" spc="-1" strike="noStrike">
                <a:solidFill>
                  <a:srgbClr val="000000"/>
                </a:solidFill>
                <a:latin typeface="黑体"/>
                <a:ea typeface="黑体"/>
              </a:rPr>
              <a:t>북한 회계제도의 변화와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ko-KR" sz="4000" spc="-1" strike="noStrike">
                <a:solidFill>
                  <a:srgbClr val="000000"/>
                </a:solidFill>
                <a:latin typeface="黑体"/>
                <a:ea typeface="黑体"/>
              </a:rPr>
              <a:t>외국인투자기업에 미치는 영향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50000">
              <a:srgbClr val="ffffff"/>
            </a:gs>
            <a:gs pos="100000">
              <a:srgbClr val="00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5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북한 경제개발구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Rectangle 14"/>
          <p:cNvSpPr/>
          <p:nvPr/>
        </p:nvSpPr>
        <p:spPr>
          <a:xfrm>
            <a:off x="0" y="692280"/>
            <a:ext cx="9144000" cy="71280"/>
          </a:xfrm>
          <a:prstGeom prst="rect">
            <a:avLst/>
          </a:prstGeom>
          <a:solidFill>
            <a:srgbClr val="00004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611280" y="2205000"/>
            <a:ext cx="8066160" cy="2654280"/>
          </a:xfrm>
          <a:prstGeom prst="rect">
            <a:avLst/>
          </a:prstGeom>
          <a:noFill/>
          <a:ln w="64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1.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계획에 따라 시기를 나누어 개발하는 원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2.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외국 자본 인입 다양화 원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3.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자연생태환경을 보호하는 원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4.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토지와 자원을 합리하게 리용하는 원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5.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생산과 서비스의 국제경제력을 제고하는 원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6.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경제활동의 편리와 사회공공리익을 보장하는 원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7.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균형발전을 유지하는 원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AutoShape 6"/>
          <p:cNvSpPr/>
          <p:nvPr/>
        </p:nvSpPr>
        <p:spPr>
          <a:xfrm>
            <a:off x="900000" y="1125360"/>
            <a:ext cx="7201080" cy="721080"/>
          </a:xfrm>
          <a:custGeom>
            <a:avLst/>
            <a:gdLst>
              <a:gd name="textAreaLeft" fmla="*/ 1643760 w 7201080"/>
              <a:gd name="textAreaRight" fmla="*/ 5557320 w 7201080"/>
              <a:gd name="textAreaTop" fmla="*/ 164520 h 721080"/>
              <a:gd name="textAreaBottom" fmla="*/ 556560 h 72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600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ahoma"/>
                <a:ea typeface="Gulim"/>
              </a:rPr>
              <a:t>경제제발구 원칙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50000">
              <a:srgbClr val="ffffff"/>
            </a:gs>
            <a:gs pos="100000">
              <a:srgbClr val="00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4"/>
          <p:cNvSpPr/>
          <p:nvPr/>
        </p:nvSpPr>
        <p:spPr>
          <a:xfrm>
            <a:off x="0" y="692280"/>
            <a:ext cx="9144000" cy="71280"/>
          </a:xfrm>
          <a:prstGeom prst="rect">
            <a:avLst/>
          </a:prstGeom>
          <a:solidFill>
            <a:srgbClr val="00004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 회계제도 개혁</a:t>
            </a:r>
            <a:r>
              <a:rPr b="1" lang="zh-CN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468360" y="1628640"/>
            <a:ext cx="8066160" cy="2654280"/>
          </a:xfrm>
          <a:prstGeom prst="rect">
            <a:avLst/>
          </a:prstGeom>
          <a:noFill/>
          <a:ln w="64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중국이 계획경제체제를 포기하고 시장경제체제를 도입함에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따라 자연스럽게 기업회계 정보에 대한 자본시장 참여자들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의 수요가 늘어 났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이러한 수요를 만족하기 위하여 개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개방초기 구소련으로 부터 물려 받은 회계제도를 수정하여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사용하려 했으나 이러한 접근 방법으로는 불가함을 인식하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고 자본주의 시장경제 체제하에서 발전하여 온 영미회계제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도를 수용하게 되였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50000">
              <a:srgbClr val="ffffff"/>
            </a:gs>
            <a:gs pos="100000">
              <a:srgbClr val="00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4"/>
          <p:cNvSpPr/>
          <p:nvPr/>
        </p:nvSpPr>
        <p:spPr>
          <a:xfrm>
            <a:off x="0" y="692280"/>
            <a:ext cx="9144000" cy="71280"/>
          </a:xfrm>
          <a:prstGeom prst="rect">
            <a:avLst/>
          </a:prstGeom>
          <a:solidFill>
            <a:srgbClr val="00004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조 량국 회계제도 비교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AutoShape 6"/>
          <p:cNvSpPr/>
          <p:nvPr/>
        </p:nvSpPr>
        <p:spPr>
          <a:xfrm>
            <a:off x="900000" y="1125360"/>
            <a:ext cx="7201080" cy="721080"/>
          </a:xfrm>
          <a:custGeom>
            <a:avLst/>
            <a:gdLst>
              <a:gd name="textAreaLeft" fmla="*/ 1643760 w 7201080"/>
              <a:gd name="textAreaRight" fmla="*/ 5557320 w 7201080"/>
              <a:gd name="textAreaTop" fmla="*/ 164520 h 721080"/>
              <a:gd name="textAreaBottom" fmla="*/ 556560 h 72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600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Tahoma"/>
                <a:ea typeface="Gulim"/>
              </a:rPr>
              <a:t>같은 점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Text Box 7"/>
          <p:cNvSpPr/>
          <p:nvPr/>
        </p:nvSpPr>
        <p:spPr>
          <a:xfrm>
            <a:off x="611280" y="2205000"/>
            <a:ext cx="8066160" cy="1922760"/>
          </a:xfrm>
          <a:prstGeom prst="rect">
            <a:avLst/>
          </a:prstGeom>
          <a:noFill/>
          <a:ln w="64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회계법 제정시기가 같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이원화 특징을 가지고 있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사회주의 특색을 충분히 체현하였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통일성을 강조하였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회계업무의 감독과 관리를 강조하였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50000">
              <a:srgbClr val="ffffff"/>
            </a:gs>
            <a:gs pos="100000">
              <a:srgbClr val="00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5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조 량국 회계제도 비교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Rectangle 14"/>
          <p:cNvSpPr/>
          <p:nvPr/>
        </p:nvSpPr>
        <p:spPr>
          <a:xfrm>
            <a:off x="0" y="692280"/>
            <a:ext cx="9144000" cy="71280"/>
          </a:xfrm>
          <a:prstGeom prst="rect">
            <a:avLst/>
          </a:prstGeom>
          <a:solidFill>
            <a:srgbClr val="00004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900000" y="1341360"/>
            <a:ext cx="7201080" cy="720720"/>
          </a:xfrm>
          <a:custGeom>
            <a:avLst/>
            <a:gdLst>
              <a:gd name="textAreaLeft" fmla="*/ 1643760 w 7201080"/>
              <a:gd name="textAreaRight" fmla="*/ 5557320 w 720108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600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ahoma"/>
                <a:ea typeface="Gulim"/>
              </a:rPr>
              <a:t>차이점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684360" y="2565360"/>
            <a:ext cx="8065800" cy="1191240"/>
          </a:xfrm>
          <a:prstGeom prst="rect">
            <a:avLst/>
          </a:prstGeom>
          <a:noFill/>
          <a:ln w="64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외자기업 상관 규정상에서 차이가 존재한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국제 기준과의 류사정도에서 차이가 존재한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법률 책임의 구분 및 처벌방면에서 차이가 존재한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50000">
              <a:srgbClr val="ffffff"/>
            </a:gs>
            <a:gs pos="100000">
              <a:srgbClr val="00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14"/>
          <p:cNvSpPr/>
          <p:nvPr/>
        </p:nvSpPr>
        <p:spPr>
          <a:xfrm>
            <a:off x="0" y="692280"/>
            <a:ext cx="9144000" cy="71280"/>
          </a:xfrm>
          <a:prstGeom prst="rect">
            <a:avLst/>
          </a:prstGeom>
          <a:solidFill>
            <a:srgbClr val="00004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1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국인투자기업에 미치는 영향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324000" y="2133720"/>
            <a:ext cx="8496000" cy="3385800"/>
          </a:xfrm>
          <a:prstGeom prst="rect">
            <a:avLst/>
          </a:prstGeom>
          <a:noFill/>
          <a:ln w="64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조선의 제일 큰 무역동반자로서 중조 경제합작은 조선에 의의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가 클 뿐만 아니라 중국 동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3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성에도 아주 큰 혜택을 가져다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줄것이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일단 조선에 대한 제재가 풀리면 중국과 조선은 농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에네르기 금융 개발구 등 령역에서 대량 합작할것이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미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중국은 조선과 공동으로 경제특별구를 개발하거나 건설할 것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며 조선 라선경제 무역구를 본보기로 삼아 중조 량국이 공동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로 시장업무를 관리하고 경영할 것이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또한 조선은 중국의 시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장 경제개혁의 성공을 경험으로 삼아 경제를 활성화 시킬 것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AutoShape 6"/>
          <p:cNvSpPr/>
          <p:nvPr/>
        </p:nvSpPr>
        <p:spPr>
          <a:xfrm>
            <a:off x="900000" y="1197000"/>
            <a:ext cx="7201080" cy="720720"/>
          </a:xfrm>
          <a:custGeom>
            <a:avLst/>
            <a:gdLst>
              <a:gd name="textAreaLeft" fmla="*/ 1643760 w 7201080"/>
              <a:gd name="textAreaRight" fmla="*/ 5557320 w 720108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600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ahoma"/>
                <a:ea typeface="Gulim"/>
              </a:rPr>
              <a:t>중국 기업의 투자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50000">
              <a:srgbClr val="ffffff"/>
            </a:gs>
            <a:gs pos="100000">
              <a:srgbClr val="00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14"/>
          <p:cNvSpPr/>
          <p:nvPr/>
        </p:nvSpPr>
        <p:spPr>
          <a:xfrm>
            <a:off x="0" y="692280"/>
            <a:ext cx="9144000" cy="71280"/>
          </a:xfrm>
          <a:prstGeom prst="rect">
            <a:avLst/>
          </a:prstGeom>
          <a:solidFill>
            <a:srgbClr val="00004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Text Box 7"/>
          <p:cNvSpPr/>
          <p:nvPr/>
        </p:nvSpPr>
        <p:spPr>
          <a:xfrm>
            <a:off x="250920" y="1989000"/>
            <a:ext cx="8496360" cy="825480"/>
          </a:xfrm>
          <a:prstGeom prst="rect">
            <a:avLst/>
          </a:prstGeom>
          <a:noFill/>
          <a:ln w="64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조선에 있는 중국기업재무일군들의 혁신관념을 가강하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기업의 회계업무를 더욱 더 규범화 하여야 한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250920" y="3284640"/>
            <a:ext cx="8496360" cy="825480"/>
          </a:xfrm>
          <a:prstGeom prst="rect">
            <a:avLst/>
          </a:prstGeom>
          <a:noFill/>
          <a:ln w="64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2.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조선에 있는 중국기업들에 대한 내부통제환경을 완선화하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회계감독 효율을 제고해야 한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Text Box 7"/>
          <p:cNvSpPr/>
          <p:nvPr/>
        </p:nvSpPr>
        <p:spPr>
          <a:xfrm>
            <a:off x="250920" y="4365720"/>
            <a:ext cx="8496360" cy="825480"/>
          </a:xfrm>
          <a:prstGeom prst="rect">
            <a:avLst/>
          </a:prstGeom>
          <a:noFill/>
          <a:ln w="64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3.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조선에 있는 중국기업 재무일군들의 종합소질을 제고하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회계인재대오 건설을 가강해야 한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Text Box 7"/>
          <p:cNvSpPr/>
          <p:nvPr/>
        </p:nvSpPr>
        <p:spPr>
          <a:xfrm>
            <a:off x="250920" y="5516640"/>
            <a:ext cx="8496360" cy="459720"/>
          </a:xfrm>
          <a:prstGeom prst="rect">
            <a:avLst/>
          </a:prstGeom>
          <a:noFill/>
          <a:ln w="64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4.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조선에 있는 중국기업에 대한 감독과 관리를 가강하여야 한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AutoShape 6"/>
          <p:cNvSpPr/>
          <p:nvPr/>
        </p:nvSpPr>
        <p:spPr>
          <a:xfrm>
            <a:off x="900000" y="1052640"/>
            <a:ext cx="7201080" cy="720720"/>
          </a:xfrm>
          <a:custGeom>
            <a:avLst/>
            <a:gdLst>
              <a:gd name="textAreaLeft" fmla="*/ 1643760 w 7201080"/>
              <a:gd name="textAreaRight" fmla="*/ 5557320 w 720108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600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ahoma"/>
                <a:ea typeface="Gulim"/>
              </a:rPr>
              <a:t>중국 기업의 대응조치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1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국인투자기업에 미치는 영향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50000">
              <a:srgbClr val="ffffff"/>
            </a:gs>
            <a:gs pos="100000">
              <a:srgbClr val="00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4"/>
          <p:cNvSpPr/>
          <p:nvPr/>
        </p:nvSpPr>
        <p:spPr>
          <a:xfrm>
            <a:off x="0" y="692280"/>
            <a:ext cx="9144000" cy="71280"/>
          </a:xfrm>
          <a:prstGeom prst="rect">
            <a:avLst/>
          </a:prstGeom>
          <a:solidFill>
            <a:srgbClr val="00004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250920" y="2133720"/>
            <a:ext cx="8496360" cy="2654280"/>
          </a:xfrm>
          <a:prstGeom prst="rect">
            <a:avLst/>
          </a:prstGeom>
          <a:noFill/>
          <a:ln w="64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조선반도형세가 완화됨에 따라 한국 중소기업이 조선에 대한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투자를 늘일것으로 예정된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한국중소기업협회에서 알아 본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의하면 한국기업에서 조선로동력을 대량으로 고용하거나 훈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할 예정이며 전에 해외로 나간 대량의 자금도 다시 조선으로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흘러 들것으로 예측한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현재 한국 국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110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만 외국인로동자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중에서 절반만이라도 조선로동자로 대체된다면 일년에 북한을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위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10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만억한화를 창조할수 있다고 한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1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국인투자기업에 미치는 영향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AutoShape 6"/>
          <p:cNvSpPr/>
          <p:nvPr/>
        </p:nvSpPr>
        <p:spPr>
          <a:xfrm>
            <a:off x="900000" y="1052640"/>
            <a:ext cx="7201080" cy="720720"/>
          </a:xfrm>
          <a:custGeom>
            <a:avLst/>
            <a:gdLst>
              <a:gd name="textAreaLeft" fmla="*/ 1643760 w 7201080"/>
              <a:gd name="textAreaRight" fmla="*/ 5557320 w 720108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600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ahoma"/>
                <a:ea typeface="Gulim"/>
              </a:rPr>
              <a:t>한국 중소기업의 투자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50000">
              <a:srgbClr val="ffffff"/>
            </a:gs>
            <a:gs pos="100000">
              <a:srgbClr val="00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4"/>
          <p:cNvSpPr/>
          <p:nvPr/>
        </p:nvSpPr>
        <p:spPr>
          <a:xfrm>
            <a:off x="0" y="692280"/>
            <a:ext cx="9144000" cy="71280"/>
          </a:xfrm>
          <a:prstGeom prst="rect">
            <a:avLst/>
          </a:prstGeom>
          <a:solidFill>
            <a:srgbClr val="00004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연구목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Text Box 7"/>
          <p:cNvSpPr/>
          <p:nvPr/>
        </p:nvSpPr>
        <p:spPr>
          <a:xfrm>
            <a:off x="468360" y="1844640"/>
            <a:ext cx="8136000" cy="1922760"/>
          </a:xfrm>
          <a:prstGeom prst="rect">
            <a:avLst/>
          </a:prstGeom>
          <a:noFill/>
          <a:ln w="64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현재 학술계에 각국 회계제도 비교에 관한 연구는 많지만 조선회계제도에 관한 연구는 매우 적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물론 조선 외자기업 회계제도가 중국모식을 본보기로 하였으나 세부환절면에서 일정한 차이점이 존재한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하기에 조선회계제도의 변화와 중조 량국회계제도의 같은 점과 차이 점의 연구를 통하여 조선에 있는 중국기업의 대응조치를 제출함으로서 앞으로 중국기업의 조선 투자에 참고할 근거를 제공한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50000">
              <a:srgbClr val="ffffff"/>
            </a:gs>
            <a:gs pos="100000">
              <a:srgbClr val="00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4"/>
          <p:cNvSpPr/>
          <p:nvPr/>
        </p:nvSpPr>
        <p:spPr>
          <a:xfrm>
            <a:off x="0" y="692280"/>
            <a:ext cx="9144000" cy="71280"/>
          </a:xfrm>
          <a:prstGeom prst="rect">
            <a:avLst/>
          </a:prstGeom>
          <a:solidFill>
            <a:srgbClr val="00004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북한 경제특징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250920" y="1197000"/>
            <a:ext cx="8424720" cy="825480"/>
          </a:xfrm>
          <a:prstGeom prst="rect">
            <a:avLst/>
          </a:prstGeom>
          <a:noFill/>
          <a:ln w="64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1.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경제발전 추진력이 부족하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북한은 자력자강의 정신으로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계획경제를 토대로 우선 중공업 특히 군사공업를 발전시켰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324000" y="2781360"/>
            <a:ext cx="8424720" cy="1191240"/>
          </a:xfrm>
          <a:prstGeom prst="rect">
            <a:avLst/>
          </a:prstGeom>
          <a:noFill/>
          <a:ln w="64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2.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이원경제 결구로 전환되였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북한은 원래 계획경제였는데 경제위기후 계획경제와 시장경제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가 병진하는 결구로 전환되였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Text Box 7"/>
          <p:cNvSpPr/>
          <p:nvPr/>
        </p:nvSpPr>
        <p:spPr>
          <a:xfrm>
            <a:off x="324000" y="4365720"/>
            <a:ext cx="8496000" cy="1191240"/>
          </a:xfrm>
          <a:prstGeom prst="rect">
            <a:avLst/>
          </a:prstGeom>
          <a:noFill/>
          <a:ln w="64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3.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경제 의뢰성이 강하다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북한은 소형의 경제체로서 자연자원이 균형을 이루지 못하기에 경제발전이 국제경제 교류와 합작을 떠나지 못한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50000">
              <a:srgbClr val="ffffff"/>
            </a:gs>
            <a:gs pos="100000">
              <a:srgbClr val="00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4"/>
          <p:cNvSpPr/>
          <p:nvPr/>
        </p:nvSpPr>
        <p:spPr>
          <a:xfrm>
            <a:off x="0" y="765000"/>
            <a:ext cx="9144000" cy="71640"/>
          </a:xfrm>
          <a:prstGeom prst="rect">
            <a:avLst/>
          </a:prstGeom>
          <a:solidFill>
            <a:srgbClr val="00004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179280" y="2276640"/>
            <a:ext cx="8642520" cy="1557000"/>
          </a:xfrm>
          <a:prstGeom prst="rect">
            <a:avLst/>
          </a:prstGeom>
          <a:noFill/>
          <a:ln w="64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국가계획집행 여부를 통제하고 수입지표 달성상황을 반영하며 번 수입을 국가 예산에로의 목적을 달성하려고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2003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년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3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월에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조선민주주의공화국회계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&gt;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을 제정하였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2003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년 회계법 제정전에는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회계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&gt;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라는 용어를 쓰지 않고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부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&gt;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로 통용하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였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179280" y="4508640"/>
            <a:ext cx="8642520" cy="1557000"/>
          </a:xfrm>
          <a:prstGeom prst="rect">
            <a:avLst/>
          </a:prstGeom>
          <a:noFill/>
          <a:ln w="64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회계법의 제정을 통하여 계획 수행에서부터 기업상호간에 이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어지는 모든 거래를 하나의 통일적인 체계로 확대하여 기존의 부기용어를 새롭게 회계로 개정하면서 중앙집권적인 재정통제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의 효율성을 확대하였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AutoShape 6"/>
          <p:cNvSpPr/>
          <p:nvPr/>
        </p:nvSpPr>
        <p:spPr>
          <a:xfrm>
            <a:off x="900000" y="1125360"/>
            <a:ext cx="7201080" cy="721080"/>
          </a:xfrm>
          <a:custGeom>
            <a:avLst/>
            <a:gdLst>
              <a:gd name="textAreaLeft" fmla="*/ 1643760 w 7201080"/>
              <a:gd name="textAreaRight" fmla="*/ 5557320 w 7201080"/>
              <a:gd name="textAreaTop" fmla="*/ 164520 h 721080"/>
              <a:gd name="textAreaBottom" fmla="*/ 556560 h 72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600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ahoma"/>
                <a:ea typeface="Gulim"/>
              </a:rPr>
              <a:t>회계법 제정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북한 회계제도의 변화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50000">
              <a:srgbClr val="ffffff"/>
            </a:gs>
            <a:gs pos="100000">
              <a:srgbClr val="00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14"/>
          <p:cNvSpPr/>
          <p:nvPr/>
        </p:nvSpPr>
        <p:spPr>
          <a:xfrm>
            <a:off x="0" y="692280"/>
            <a:ext cx="9144000" cy="71280"/>
          </a:xfrm>
          <a:prstGeom prst="rect">
            <a:avLst/>
          </a:prstGeom>
          <a:solidFill>
            <a:srgbClr val="00004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AutoShape 6"/>
          <p:cNvSpPr/>
          <p:nvPr/>
        </p:nvSpPr>
        <p:spPr>
          <a:xfrm>
            <a:off x="539640" y="1844640"/>
            <a:ext cx="863640" cy="4321080"/>
          </a:xfrm>
          <a:custGeom>
            <a:avLst/>
            <a:gdLst>
              <a:gd name="textAreaLeft" fmla="*/ 117000 w 863640"/>
              <a:gd name="textAreaRight" fmla="*/ 746640 w 863640"/>
              <a:gd name="textAreaTop" fmla="*/ 992160 h 4321080"/>
              <a:gd name="textAreaBottom" fmla="*/ 3328920 h 4321080"/>
            </a:gdLst>
            <a:ahLst/>
            <a:rect l="textAreaLeft" t="textAreaTop" r="textAreaRight" b="textAreaBottom"/>
            <a:pathLst>
              <a:path w="21600" h="21600">
                <a:moveTo>
                  <a:pt x="0" y="4960"/>
                </a:moveTo>
                <a:lnTo>
                  <a:pt x="16189" y="4960"/>
                </a:lnTo>
                <a:lnTo>
                  <a:pt x="16189" y="0"/>
                </a:lnTo>
                <a:lnTo>
                  <a:pt x="21600" y="10800"/>
                </a:lnTo>
                <a:lnTo>
                  <a:pt x="16189" y="21600"/>
                </a:lnTo>
                <a:lnTo>
                  <a:pt x="16189" y="16640"/>
                </a:lnTo>
                <a:lnTo>
                  <a:pt x="0" y="16640"/>
                </a:lnTo>
                <a:lnTo>
                  <a:pt x="2926" y="10800"/>
                </a:lnTo>
                <a:lnTo>
                  <a:pt x="0" y="4960"/>
                </a:lnTo>
                <a:close/>
              </a:path>
            </a:pathLst>
          </a:custGeom>
          <a:solidFill>
            <a:srgbClr val="00c600"/>
          </a:solidFill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시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스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템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AutoShape 7"/>
          <p:cNvSpPr/>
          <p:nvPr/>
        </p:nvSpPr>
        <p:spPr>
          <a:xfrm>
            <a:off x="1979640" y="2133720"/>
            <a:ext cx="2519280" cy="649080"/>
          </a:xfrm>
          <a:prstGeom prst="flowChartAlternateProcess">
            <a:avLst/>
          </a:prstGeom>
          <a:solidFill>
            <a:srgbClr val="00c600"/>
          </a:solidFill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Tahoma"/>
                <a:ea typeface="Gulim"/>
              </a:rPr>
              <a:t>경영회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AutoShape 7"/>
          <p:cNvSpPr/>
          <p:nvPr/>
        </p:nvSpPr>
        <p:spPr>
          <a:xfrm>
            <a:off x="2050920" y="4149720"/>
            <a:ext cx="2519640" cy="649440"/>
          </a:xfrm>
          <a:prstGeom prst="flowChartAlternateProcess">
            <a:avLst/>
          </a:prstGeom>
          <a:solidFill>
            <a:srgbClr val="00c600"/>
          </a:solidFill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Tahoma"/>
                <a:ea typeface="Gulim"/>
              </a:rPr>
              <a:t>종합회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AutoShape 10"/>
          <p:cNvSpPr/>
          <p:nvPr/>
        </p:nvSpPr>
        <p:spPr>
          <a:xfrm>
            <a:off x="4572000" y="4365720"/>
            <a:ext cx="722160" cy="288720"/>
          </a:xfrm>
          <a:prstGeom prst="rightArrow">
            <a:avLst>
              <a:gd name="adj1" fmla="val 50000"/>
              <a:gd name="adj2" fmla="val 62531"/>
            </a:avLst>
          </a:prstGeom>
          <a:noFill/>
          <a:ln w="316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Text Box 14"/>
          <p:cNvSpPr/>
          <p:nvPr/>
        </p:nvSpPr>
        <p:spPr>
          <a:xfrm>
            <a:off x="5364000" y="3357720"/>
            <a:ext cx="2737080" cy="459720"/>
          </a:xfrm>
          <a:prstGeom prst="rect">
            <a:avLst/>
          </a:prstGeom>
          <a:noFill/>
          <a:ln w="64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중앙회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Text Box 14"/>
          <p:cNvSpPr/>
          <p:nvPr/>
        </p:nvSpPr>
        <p:spPr>
          <a:xfrm>
            <a:off x="5364000" y="4076640"/>
            <a:ext cx="2737080" cy="459720"/>
          </a:xfrm>
          <a:prstGeom prst="rect">
            <a:avLst/>
          </a:prstGeom>
          <a:noFill/>
          <a:ln w="64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Tahoma"/>
                <a:ea typeface="Gulim"/>
              </a:rPr>
              <a:t>      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지방회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Text Box 14"/>
          <p:cNvSpPr/>
          <p:nvPr/>
        </p:nvSpPr>
        <p:spPr>
          <a:xfrm>
            <a:off x="5364000" y="4724280"/>
            <a:ext cx="2737080" cy="459720"/>
          </a:xfrm>
          <a:prstGeom prst="rect">
            <a:avLst/>
          </a:prstGeom>
          <a:noFill/>
          <a:ln w="64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      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부문회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Text Box 14"/>
          <p:cNvSpPr/>
          <p:nvPr/>
        </p:nvSpPr>
        <p:spPr>
          <a:xfrm>
            <a:off x="5364000" y="5373720"/>
            <a:ext cx="2737080" cy="459720"/>
          </a:xfrm>
          <a:prstGeom prst="rect">
            <a:avLst/>
          </a:prstGeom>
          <a:noFill/>
          <a:ln w="64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      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금융회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북한 회계제도의 변화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900000" y="1125360"/>
            <a:ext cx="7201080" cy="721080"/>
          </a:xfrm>
          <a:custGeom>
            <a:avLst/>
            <a:gdLst>
              <a:gd name="textAreaLeft" fmla="*/ 1643760 w 7201080"/>
              <a:gd name="textAreaRight" fmla="*/ 5557320 w 7201080"/>
              <a:gd name="textAreaTop" fmla="*/ 164520 h 721080"/>
              <a:gd name="textAreaBottom" fmla="*/ 556560 h 72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600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ahoma"/>
                <a:ea typeface="Gulim"/>
              </a:rPr>
              <a:t>회계 시스템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50000">
              <a:srgbClr val="ffffff"/>
            </a:gs>
            <a:gs pos="100000">
              <a:srgbClr val="00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4"/>
          <p:cNvSpPr/>
          <p:nvPr/>
        </p:nvSpPr>
        <p:spPr>
          <a:xfrm>
            <a:off x="0" y="692280"/>
            <a:ext cx="9144000" cy="71280"/>
          </a:xfrm>
          <a:prstGeom prst="rect">
            <a:avLst/>
          </a:prstGeom>
          <a:solidFill>
            <a:srgbClr val="00004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AutoShape 6"/>
          <p:cNvSpPr/>
          <p:nvPr/>
        </p:nvSpPr>
        <p:spPr>
          <a:xfrm>
            <a:off x="468360" y="1989000"/>
            <a:ext cx="863640" cy="4321440"/>
          </a:xfrm>
          <a:custGeom>
            <a:avLst/>
            <a:gdLst>
              <a:gd name="textAreaLeft" fmla="*/ 117000 w 863640"/>
              <a:gd name="textAreaRight" fmla="*/ 746640 w 863640"/>
              <a:gd name="textAreaTop" fmla="*/ 992160 h 4321440"/>
              <a:gd name="textAreaBottom" fmla="*/ 3329280 h 4321440"/>
            </a:gdLst>
            <a:ahLst/>
            <a:rect l="textAreaLeft" t="textAreaTop" r="textAreaRight" b="textAreaBottom"/>
            <a:pathLst>
              <a:path w="21600" h="21600">
                <a:moveTo>
                  <a:pt x="0" y="4960"/>
                </a:moveTo>
                <a:lnTo>
                  <a:pt x="16189" y="4960"/>
                </a:lnTo>
                <a:lnTo>
                  <a:pt x="16189" y="0"/>
                </a:lnTo>
                <a:lnTo>
                  <a:pt x="21600" y="10800"/>
                </a:lnTo>
                <a:lnTo>
                  <a:pt x="16189" y="21600"/>
                </a:lnTo>
                <a:lnTo>
                  <a:pt x="16189" y="16640"/>
                </a:lnTo>
                <a:lnTo>
                  <a:pt x="0" y="16640"/>
                </a:lnTo>
                <a:lnTo>
                  <a:pt x="2926" y="10800"/>
                </a:lnTo>
                <a:lnTo>
                  <a:pt x="0" y="4960"/>
                </a:lnTo>
                <a:close/>
              </a:path>
            </a:pathLst>
          </a:custGeom>
          <a:solidFill>
            <a:srgbClr val="00c600"/>
          </a:solidFill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AutoShape 7"/>
          <p:cNvSpPr/>
          <p:nvPr/>
        </p:nvSpPr>
        <p:spPr>
          <a:xfrm>
            <a:off x="1979640" y="2565360"/>
            <a:ext cx="2519280" cy="649440"/>
          </a:xfrm>
          <a:prstGeom prst="flowChartAlternateProcess">
            <a:avLst/>
          </a:prstGeom>
          <a:solidFill>
            <a:srgbClr val="00c600"/>
          </a:solidFill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Tahoma"/>
                <a:ea typeface="Gulim"/>
              </a:rPr>
              <a:t>내부회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AutoShape 7"/>
          <p:cNvSpPr/>
          <p:nvPr/>
        </p:nvSpPr>
        <p:spPr>
          <a:xfrm>
            <a:off x="1979640" y="4797360"/>
            <a:ext cx="4248000" cy="649440"/>
          </a:xfrm>
          <a:prstGeom prst="flowChartAlternateProcess">
            <a:avLst/>
          </a:prstGeom>
          <a:solidFill>
            <a:srgbClr val="00c600"/>
          </a:solidFill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Tahoma"/>
                <a:ea typeface="Gulim"/>
              </a:rPr>
              <a:t>외국인투자 및 경제특구회계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북한 회계제도의 변화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AutoShape 6"/>
          <p:cNvSpPr/>
          <p:nvPr/>
        </p:nvSpPr>
        <p:spPr>
          <a:xfrm>
            <a:off x="900000" y="1125360"/>
            <a:ext cx="7201080" cy="721080"/>
          </a:xfrm>
          <a:custGeom>
            <a:avLst/>
            <a:gdLst>
              <a:gd name="textAreaLeft" fmla="*/ 1643760 w 7201080"/>
              <a:gd name="textAreaRight" fmla="*/ 5557320 w 7201080"/>
              <a:gd name="textAreaTop" fmla="*/ 164520 h 721080"/>
              <a:gd name="textAreaBottom" fmla="*/ 556560 h 72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600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ahoma"/>
                <a:ea typeface="Gulim"/>
              </a:rPr>
              <a:t>회계 체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50000">
              <a:srgbClr val="ffffff"/>
            </a:gs>
            <a:gs pos="100000">
              <a:srgbClr val="00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5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북한</a:t>
            </a:r>
            <a:r>
              <a:rPr b="1" lang="ko-KR" sz="2400" spc="-1" strike="noStrike">
                <a:solidFill>
                  <a:srgbClr val="ffffff"/>
                </a:solidFill>
                <a:latin typeface="Tahoma"/>
                <a:ea typeface="Gulim"/>
              </a:rPr>
              <a:t>  </a:t>
            </a:r>
            <a:r>
              <a:rPr b="1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내부 회계제도의 특징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1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Rectangle 14"/>
          <p:cNvSpPr/>
          <p:nvPr/>
        </p:nvSpPr>
        <p:spPr>
          <a:xfrm>
            <a:off x="0" y="692280"/>
            <a:ext cx="9144000" cy="71280"/>
          </a:xfrm>
          <a:prstGeom prst="rect">
            <a:avLst/>
          </a:prstGeom>
          <a:solidFill>
            <a:srgbClr val="00004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Text Box 7"/>
          <p:cNvSpPr/>
          <p:nvPr/>
        </p:nvSpPr>
        <p:spPr>
          <a:xfrm>
            <a:off x="611280" y="1844640"/>
            <a:ext cx="8066160" cy="1922760"/>
          </a:xfrm>
          <a:prstGeom prst="rect">
            <a:avLst/>
          </a:prstGeom>
          <a:noFill/>
          <a:ln w="64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회계계산방법과 순서는 국제모식에 접근한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정부가 사회주의 기본경제규률과 가치규률에 근거하여 계획적으로 가격을 제정한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북한 내부회계는 관리회계를 중시한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회계처리 방법이 간편하고 통일되였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정부가 감사를 책임진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50000">
              <a:srgbClr val="ffffff"/>
            </a:gs>
            <a:gs pos="100000">
              <a:srgbClr val="00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4"/>
          <p:cNvSpPr/>
          <p:nvPr/>
        </p:nvSpPr>
        <p:spPr>
          <a:xfrm>
            <a:off x="0" y="692280"/>
            <a:ext cx="9144000" cy="71280"/>
          </a:xfrm>
          <a:prstGeom prst="rect">
            <a:avLst/>
          </a:prstGeom>
          <a:solidFill>
            <a:srgbClr val="00004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북한</a:t>
            </a:r>
            <a:r>
              <a:rPr b="1" lang="ko-KR" sz="2400" spc="-1" strike="noStrike">
                <a:solidFill>
                  <a:srgbClr val="ffffff"/>
                </a:solidFill>
                <a:latin typeface="Tahoma"/>
                <a:ea typeface="Gulim"/>
              </a:rPr>
              <a:t>  </a:t>
            </a:r>
            <a:r>
              <a:rPr b="1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자기업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계제도의 특징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1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611280" y="1844640"/>
            <a:ext cx="8066160" cy="1557000"/>
          </a:xfrm>
          <a:prstGeom prst="rect">
            <a:avLst/>
          </a:prstGeom>
          <a:noFill/>
          <a:ln w="64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통일성을 강조하면서도 특수성을 반영한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국제회계용어와 비슷하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회계업무의 감독과 관리를 강조한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법과 규정을 어긴 처벌 방식은 주로 벌금이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50000">
              <a:srgbClr val="ffffff"/>
            </a:gs>
            <a:gs pos="100000">
              <a:srgbClr val="00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14"/>
          <p:cNvSpPr/>
          <p:nvPr/>
        </p:nvSpPr>
        <p:spPr>
          <a:xfrm>
            <a:off x="0" y="692280"/>
            <a:ext cx="9144000" cy="71280"/>
          </a:xfrm>
          <a:prstGeom prst="rect">
            <a:avLst/>
          </a:prstGeom>
          <a:solidFill>
            <a:srgbClr val="00004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북한 경제개발구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AutoShape 6"/>
          <p:cNvSpPr/>
          <p:nvPr/>
        </p:nvSpPr>
        <p:spPr>
          <a:xfrm>
            <a:off x="900000" y="1125360"/>
            <a:ext cx="7201080" cy="721080"/>
          </a:xfrm>
          <a:custGeom>
            <a:avLst/>
            <a:gdLst>
              <a:gd name="textAreaLeft" fmla="*/ 1643760 w 7201080"/>
              <a:gd name="textAreaRight" fmla="*/ 5557320 w 7201080"/>
              <a:gd name="textAreaTop" fmla="*/ 164520 h 721080"/>
              <a:gd name="textAreaBottom" fmla="*/ 556560 h 72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600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ahoma"/>
                <a:ea typeface="Gulim"/>
              </a:rPr>
              <a:t>경제제발구 설립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AutoShape 6"/>
          <p:cNvSpPr/>
          <p:nvPr/>
        </p:nvSpPr>
        <p:spPr>
          <a:xfrm>
            <a:off x="900000" y="2133720"/>
            <a:ext cx="863640" cy="4321080"/>
          </a:xfrm>
          <a:custGeom>
            <a:avLst/>
            <a:gdLst>
              <a:gd name="textAreaLeft" fmla="*/ 117000 w 863640"/>
              <a:gd name="textAreaRight" fmla="*/ 746640 w 863640"/>
              <a:gd name="textAreaTop" fmla="*/ 992160 h 4321080"/>
              <a:gd name="textAreaBottom" fmla="*/ 3328920 h 4321080"/>
            </a:gdLst>
            <a:ahLst/>
            <a:rect l="textAreaLeft" t="textAreaTop" r="textAreaRight" b="textAreaBottom"/>
            <a:pathLst>
              <a:path w="21600" h="21600">
                <a:moveTo>
                  <a:pt x="0" y="4960"/>
                </a:moveTo>
                <a:lnTo>
                  <a:pt x="16189" y="4960"/>
                </a:lnTo>
                <a:lnTo>
                  <a:pt x="16189" y="0"/>
                </a:lnTo>
                <a:lnTo>
                  <a:pt x="21600" y="10800"/>
                </a:lnTo>
                <a:lnTo>
                  <a:pt x="16189" y="21600"/>
                </a:lnTo>
                <a:lnTo>
                  <a:pt x="16189" y="16640"/>
                </a:lnTo>
                <a:lnTo>
                  <a:pt x="0" y="16640"/>
                </a:lnTo>
                <a:lnTo>
                  <a:pt x="2926" y="10800"/>
                </a:lnTo>
                <a:lnTo>
                  <a:pt x="0" y="4960"/>
                </a:lnTo>
                <a:close/>
              </a:path>
            </a:pathLst>
          </a:custGeom>
          <a:solidFill>
            <a:srgbClr val="00c600"/>
          </a:solidFill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제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제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발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Gulim"/>
              </a:rPr>
              <a:t>구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AutoShape 7"/>
          <p:cNvSpPr/>
          <p:nvPr/>
        </p:nvSpPr>
        <p:spPr>
          <a:xfrm>
            <a:off x="2700360" y="1989000"/>
            <a:ext cx="2519280" cy="649440"/>
          </a:xfrm>
          <a:prstGeom prst="flowChartAlternateProcess">
            <a:avLst/>
          </a:prstGeom>
          <a:solidFill>
            <a:srgbClr val="00c600"/>
          </a:solidFill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Tahoma"/>
                <a:ea typeface="Gulim"/>
              </a:rPr>
              <a:t>공업개발구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AutoShape 7"/>
          <p:cNvSpPr/>
          <p:nvPr/>
        </p:nvSpPr>
        <p:spPr>
          <a:xfrm>
            <a:off x="2700360" y="2924280"/>
            <a:ext cx="2519280" cy="649080"/>
          </a:xfrm>
          <a:prstGeom prst="flowChartAlternateProcess">
            <a:avLst/>
          </a:prstGeom>
          <a:solidFill>
            <a:srgbClr val="00c600"/>
          </a:solidFill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Tahoma"/>
                <a:ea typeface="Gulim"/>
              </a:rPr>
              <a:t>농업개발구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AutoShape 7"/>
          <p:cNvSpPr/>
          <p:nvPr/>
        </p:nvSpPr>
        <p:spPr>
          <a:xfrm>
            <a:off x="2700360" y="3789360"/>
            <a:ext cx="2519280" cy="649440"/>
          </a:xfrm>
          <a:prstGeom prst="flowChartAlternateProcess">
            <a:avLst/>
          </a:prstGeom>
          <a:solidFill>
            <a:srgbClr val="00c600"/>
          </a:solidFill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Tahoma"/>
                <a:ea typeface="Gulim"/>
              </a:rPr>
              <a:t>관광개발구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AutoShape 7"/>
          <p:cNvSpPr/>
          <p:nvPr/>
        </p:nvSpPr>
        <p:spPr>
          <a:xfrm>
            <a:off x="2700360" y="4653000"/>
            <a:ext cx="2519280" cy="649080"/>
          </a:xfrm>
          <a:prstGeom prst="flowChartAlternateProcess">
            <a:avLst/>
          </a:prstGeom>
          <a:solidFill>
            <a:srgbClr val="00c600"/>
          </a:solidFill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Tahoma"/>
                <a:ea typeface="Gulim"/>
              </a:rPr>
              <a:t>수출개발구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AutoShape 7"/>
          <p:cNvSpPr/>
          <p:nvPr/>
        </p:nvSpPr>
        <p:spPr>
          <a:xfrm>
            <a:off x="2627280" y="5589720"/>
            <a:ext cx="2519280" cy="649080"/>
          </a:xfrm>
          <a:prstGeom prst="flowChartAlternateProcess">
            <a:avLst/>
          </a:prstGeom>
          <a:solidFill>
            <a:srgbClr val="00c600"/>
          </a:solidFill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Tahoma"/>
                <a:ea typeface="Gulim"/>
              </a:rPr>
              <a:t>첨단기술개발구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05:47:41Z</dcterms:created>
  <dc:creator>User</dc:creator>
  <dc:description/>
  <dc:language>en-US</dc:language>
  <cp:lastModifiedBy>Dong</cp:lastModifiedBy>
  <dcterms:modified xsi:type="dcterms:W3CDTF">2018-05-30T05:16:13Z</dcterms:modified>
  <cp:revision>254</cp:revision>
  <dc:subject/>
  <dc:title>幻灯片 1</dc:title>
</cp:coreProperties>
</file>